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laser.wav" ContentType="audio/x-wav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E7EB-17DE-4C1E-BC76-6D404D3B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753-482C-43AC-8C89-1DA9AA00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322-9723-4900-BD1B-E1730A11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B43-E3EF-4929-9F33-F4B459BA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186C-9FD5-4912-86B0-26FC2A99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4041-C52B-4212-9CD3-AEBED2AB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B2BE-4879-48FD-A433-2CEA4616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8074-FC07-4405-99F8-39764A05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12DE-17F1-40C0-8AC3-2939AB54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7C42-1564-4EF8-B8EF-DBD88FD8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348B-52C6-4438-8BFF-0D319D45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EA06-3E3E-4E46-A48D-BC5B6144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FF9D-6462-4E3D-8BA1-7C29BC75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99F8-6614-4F86-BF86-02621396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43DE-1E57-42B3-882C-D2F0359D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B6B6-27AF-4DA5-8B44-6F7C1081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F26B-0038-4A71-ABC9-D4A3E0A1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4FA-FB19-4DBE-8E44-A16E4486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FEE-8F30-4E49-A512-F2E85857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36B-E752-438E-AF06-7D3F9D09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EBD-F5A5-4B95-A2AF-929F7516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4C3A-93E8-4739-816B-1E2422DD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41E-3FB8-4F4F-8E4B-C43C40A6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5577-9611-4E87-9599-9EF8C914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55FA-4492-4A46-AC9D-F8A596EA7CC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A9B4-31C5-4C54-A21B-4AAD6A18376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jpeg"/><Relationship Id="rId7" Type="http://schemas.openxmlformats.org/officeDocument/2006/relationships/image" Target="../media/image5.jpeg"/><Relationship Id="rId8" Type="http://schemas.openxmlformats.org/officeDocument/2006/relationships/image" Target="../media/image9.jpeg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9;&#1090;&#1077;&#1088;&#1085;" TargetMode="External"/><Relationship Id="rId2" Type="http://schemas.openxmlformats.org/officeDocument/2006/relationships/hyperlink" Target="http://ru.wikipedia.org/wiki/&#1042;&#1086;&#1083;&#1100;&#1090;&#1080;&#1078;&#1080;&#1088;&#1086;&#1074;&#1082;&#1072;" TargetMode="External"/><Relationship Id="rId3" Type="http://schemas.openxmlformats.org/officeDocument/2006/relationships/hyperlink" Target="http://ru.wikipedia.org/wiki/&#1042;&#1099;&#1077;&#1079;&#1076;&#1082;&#1072;" TargetMode="External"/><Relationship Id="rId4" Type="http://schemas.openxmlformats.org/officeDocument/2006/relationships/hyperlink" Target="http://ru.wikipedia.org/w/index.php?title=&#1044;&#1072;&#1084;&#1089;&#1082;&#1072;&#1103;_&#1077;&#1079;&#1076;&#1072;&amp;action=edit&amp;redlink=1" TargetMode="External"/><Relationship Id="rId5" Type="http://schemas.openxmlformats.org/officeDocument/2006/relationships/hyperlink" Target="http://ru.wikipedia.org/wiki/&#1044;&#1078;&#1080;&#1075;&#1080;&#1090;&#1086;&#1074;&#1082;&#1072;" TargetMode="External"/><Relationship Id="rId6" Type="http://schemas.openxmlformats.org/officeDocument/2006/relationships/hyperlink" Target="http://ru.wikipedia.org/wiki/&#1044;&#1088;&#1072;&#1081;&#1074;&#1080;&#1085;&#1075;" TargetMode="External"/><Relationship Id="rId7" Type="http://schemas.openxmlformats.org/officeDocument/2006/relationships/hyperlink" Target="http://ru.wikipedia.org/wiki/&#1050;&#1086;&#1085;&#1082;&#1091;&#1088;" TargetMode="External"/><Relationship Id="rId8" Type="http://schemas.openxmlformats.org/officeDocument/2006/relationships/hyperlink" Target="http://ru.wikipedia.org/w/index.php?title=&#1050;&#1086;&#1085;&#1085;&#1086;&#1077;_&#1087;&#1086;&#1083;&#1086;&amp;action=edit&amp;redlink=1" TargetMode="External"/><Relationship Id="rId9" Type="http://schemas.openxmlformats.org/officeDocument/2006/relationships/hyperlink" Target="http://ru.wikipedia.org/w/index.php?title=&#1055;&#1088;&#1086;&#1073;&#1077;&#1075;&#1080;&amp;action=edit&amp;redlink=1" TargetMode="External"/><Relationship Id="rId10" Type="http://schemas.openxmlformats.org/officeDocument/2006/relationships/hyperlink" Target="http://ru.wikipedia.org/wiki/&#1058;&#1088;&#1077;&#1082;" TargetMode="External"/><Relationship Id="rId11" Type="http://schemas.openxmlformats.org/officeDocument/2006/relationships/hyperlink" Target="http://ru.wikipedia.org/w/index.php?title=&#1058;&#1088;&#1086;&#1077;&#1073;&#1086;&#1088;&#1100;&#1077;_%28&#1082;&#1086;&#1085;&#1085;&#1099;&#1081;_&#1089;&#1087;&#1086;&#1088;&#1090;%29&amp;action=edit&amp;redlink=1" TargetMode="External"/><Relationship Id="rId12" Type="http://schemas.openxmlformats.org/officeDocument/2006/relationships/hyperlink" Target="http://ru.wikipedia.org/wiki/&#1041;&#1072;&#1081;&#1075;&#1072;" TargetMode="External"/><Relationship Id="rId13" Type="http://schemas.openxmlformats.org/officeDocument/2006/relationships/hyperlink" Target="http://ru.wikipedia.org/wiki/&#1057;&#1082;&#1072;&#1095;&#1082;&#1080;" TargetMode="External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7;&#1085;&#1079;&#1077;&#1083;&#1100;" TargetMode="External"/><Relationship Id="rId2" Type="http://schemas.openxmlformats.org/officeDocument/2006/relationships/hyperlink" Target="http://ru.wikipedia.org/wiki/&#1052;&#1091;&#1085;&#1076;&#1096;&#1090;&#1091;&#1082;" TargetMode="External"/><Relationship Id="rId3" Type="http://schemas.openxmlformats.org/officeDocument/2006/relationships/hyperlink" Target="http://ru.wikipedia.org/wiki/&#1057;&#1082;&#1086;&#1083;&#1100;&#1079;&#1103;&#1097;&#1080;&#1077;_&#1087;&#1086;&#1074;&#1086;&#1076;&#1100;&#1103;" TargetMode="External"/><Relationship Id="rId4" Type="http://schemas.openxmlformats.org/officeDocument/2006/relationships/hyperlink" Target="http://ru.wikipedia.org/wiki/&#1064;&#1087;&#1088;&#1091;&#1085;&#1090;" TargetMode="External"/><Relationship Id="rId5" Type="http://schemas.openxmlformats.org/officeDocument/2006/relationships/hyperlink" Target="http://ru.wikipedia.org/wiki/&#1043;&#1086;&#1075;" TargetMode="External"/><Relationship Id="rId6" Type="http://schemas.openxmlformats.org/officeDocument/2006/relationships/hyperlink" Target="http://ru.wikipedia.org/wiki/&#1052;&#1072;&#1088;&#1090;&#1080;&#1085;&#1075;&#1072;&#1083;" TargetMode="External"/><Relationship Id="rId7" Type="http://schemas.openxmlformats.org/officeDocument/2006/relationships/hyperlink" Target="http://ru.wikipedia.org/wiki/&#1061;&#1072;&#1082;&#1072;&#1084;&#1086;&#1088;&#1072;" TargetMode="External"/><Relationship Id="rId8" Type="http://schemas.openxmlformats.org/officeDocument/2006/relationships/hyperlink" Target="http://ru.wikipedia.org/wiki/&#1053;&#1077;&#1076;&#1086;&#1091;&#1079;&#1076;&#1086;&#1082;" TargetMode="External"/><Relationship Id="rId9" Type="http://schemas.openxmlformats.org/officeDocument/2006/relationships/image" Target="../media/image5.jpeg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8;&#1080;&#1076;&#1078;&#1080;" TargetMode="External"/><Relationship Id="rId2" Type="http://schemas.openxmlformats.org/officeDocument/2006/relationships/hyperlink" Target="http://ru.wikipedia.org/wiki/&#1056;&#1077;&#1076;&#1080;&#1085;&#1075;&#1086;&#1090;" TargetMode="External"/><Relationship Id="rId3" Type="http://schemas.openxmlformats.org/officeDocument/2006/relationships/hyperlink" Target="http://ru.wikipedia.org/w/index.php?title=&#1046;&#1086;&#1082;&#1077;&#1081;&#1082;&#1072;&amp;action=edit&amp;redlink=1" TargetMode="External"/><Relationship Id="rId4" Type="http://schemas.openxmlformats.org/officeDocument/2006/relationships/hyperlink" Target="http://ru.wikipedia.org/w/index.php?title=&#1050;&#1088;&#1072;&#1075;&#1080;&amp;action=edit&amp;redlink=1" TargetMode="External"/><Relationship Id="rId5" Type="http://schemas.openxmlformats.org/officeDocument/2006/relationships/image" Target="../media/image6.png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3399"/>
                </a:solidFill>
                <a:latin typeface="Arial"/>
              </a:rPr>
              <a:t>Конный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3399"/>
                </a:solidFill>
                <a:latin typeface="Arial"/>
              </a:rPr>
              <a:t>спорт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4356000" y="3645000"/>
            <a:ext cx="383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Подготовила учениц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 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5 б класс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Глазырина Анастасия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3780000" y="4941720"/>
            <a:ext cx="50194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еподаватель: Цилюрик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Ирина Петровн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3" name="Picture 7" descr="Изображение 020"/>
          <p:cNvPicPr/>
          <p:nvPr/>
        </p:nvPicPr>
        <p:blipFill>
          <a:blip r:embed="rId1"/>
          <a:stretch/>
        </p:blipFill>
        <p:spPr>
          <a:xfrm>
            <a:off x="306360" y="2571840"/>
            <a:ext cx="383076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630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ИРОДЕ ЛОШАДЬ ПЕРЕДВИГАЕТСЯ ЧЕТЫРМЯ СПОСОБАМИ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гом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ысь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оходью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лоп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4" descr="КО"/>
          <p:cNvPicPr/>
          <p:nvPr/>
        </p:nvPicPr>
        <p:blipFill>
          <a:blip r:embed="rId6"/>
          <a:stretch/>
        </p:blipFill>
        <p:spPr>
          <a:xfrm>
            <a:off x="5478480" y="401796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КО"/>
          <p:cNvPicPr/>
          <p:nvPr/>
        </p:nvPicPr>
        <p:blipFill>
          <a:blip r:embed="rId7"/>
          <a:stretch/>
        </p:blipFill>
        <p:spPr>
          <a:xfrm>
            <a:off x="3851280" y="393372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anter2"/>
          <p:cNvPicPr/>
          <p:nvPr/>
        </p:nvPicPr>
        <p:blipFill>
          <a:blip r:embed="rId8"/>
          <a:stretch/>
        </p:blipFill>
        <p:spPr>
          <a:xfrm>
            <a:off x="6012000" y="2852640"/>
            <a:ext cx="209520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 ЛОШАДЕЙ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ошади – это не просто вьючное животное, они очень умны и талантливы. Несмотря на достаточно своенравный характер лошадей. Особенно если они дикие, умелый тренер и наездник сможет их обуздать. Таким образом, прекрасная в своей дикой красоте лошадь, станет не менее прекрасным, но уже благородной красотой животны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КОННЫЕ РАЗВЛЕЧЕН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7" name="Picture 5" descr="КО"/>
          <p:cNvPicPr/>
          <p:nvPr/>
        </p:nvPicPr>
        <p:blipFill>
          <a:blip r:embed="rId1"/>
          <a:stretch/>
        </p:blipFill>
        <p:spPr>
          <a:xfrm>
            <a:off x="7238880" y="501336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КО"/>
          <p:cNvPicPr/>
          <p:nvPr/>
        </p:nvPicPr>
        <p:blipFill>
          <a:blip r:embed="rId2"/>
          <a:stretch/>
        </p:blipFill>
        <p:spPr>
          <a:xfrm>
            <a:off x="6012000" y="4581360"/>
            <a:ext cx="1904760" cy="1270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519120" y="2492280"/>
            <a:ext cx="832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г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га рысью под  седлом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но-лыжные соревнования, или скоринг (от норвежского «skijoring»)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пытания тяжеловозов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ревнования русских троек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ные эстафеты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 СПОР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НЫЙ СПОРТ- соревнования в искусстве верховой езды на лошад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ВИДЫ КОННОГО СПОРТ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Вестерн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Вольтижиров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Выезд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Дамская езд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Джигитов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Драйвинг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Конкур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Конное поло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9"/>
              </a:rPr>
              <a:t>Пробег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0"/>
              </a:rPr>
              <a:t>Трек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1"/>
              </a:rPr>
              <a:t>Троеборь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2"/>
              </a:rPr>
              <a:t>Байг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3"/>
              </a:rPr>
              <a:t>Скачк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МУНИ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Трензел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Мундшту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Скользящие поводь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Шпрун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Гог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Мартинга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Хакамор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Недоуздо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572000" y="1341360"/>
            <a:ext cx="4572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Чумбур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орд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едло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пруг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емя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альтрап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пон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огавки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7" descr="КО"/>
          <p:cNvPicPr/>
          <p:nvPr/>
        </p:nvPicPr>
        <p:blipFill>
          <a:blip r:embed="rId9"/>
          <a:stretch/>
        </p:blipFill>
        <p:spPr>
          <a:xfrm>
            <a:off x="5364000" y="4869000"/>
            <a:ext cx="1905120" cy="126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КИПИРОВ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Бридж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Рединго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Жокей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Краг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пс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ркрот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пор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6" descr="0_1ef7_4e7bfa24_XS"/>
          <p:cNvPicPr/>
          <p:nvPr/>
        </p:nvPicPr>
        <p:blipFill>
          <a:blip r:embed="rId5"/>
          <a:stretch/>
        </p:blipFill>
        <p:spPr>
          <a:xfrm>
            <a:off x="4572000" y="2060640"/>
            <a:ext cx="404172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ПОРОДЫ ЛОШАДЕЙ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езды верхом в нашей стране используются как отечественные породы лошадей — ахалтекинская, терская, украинская, так и выведенные за рубежом, например арабская, чистокровная верховая, тракенская. Верховые лошади сравнительно высокие, статные, сухоногие, с не очень большой сухой головой, тонкой кожей. Для них важны постоянный уход, определенные условия содержания, четкая система тренинг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КАЧКИ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4" name="Picture 4" descr="0_12e59_cd268e58_L"/>
          <p:cNvPicPr/>
          <p:nvPr/>
        </p:nvPicPr>
        <p:blipFill>
          <a:blip r:embed="rId1"/>
          <a:stretch/>
        </p:blipFill>
        <p:spPr>
          <a:xfrm>
            <a:off x="971640" y="907920"/>
            <a:ext cx="6350040" cy="506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1:10:03Z</dcterms:created>
  <dc:creator>MX</dc:creator>
  <dc:description/>
  <dc:language>en-US</dc:language>
  <cp:lastModifiedBy>Ирина Петровна</cp:lastModifiedBy>
  <dcterms:modified xsi:type="dcterms:W3CDTF">2009-08-17T15:10:12Z</dcterms:modified>
  <cp:revision>8</cp:revision>
  <dc:subject/>
  <dc:title>Конный спорт</dc:title>
</cp:coreProperties>
</file>